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AA97-58C0-41FE-9FDD-77574F1592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3d69b"/>
                </a:solidFill>
                <a:latin typeface="Calibri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СТ- ЧАСТЬ ПОБЕГА. ВНЕШНЕЕ И ВНУТРЕННЕЕ СТРОЕНИЕ ЛИ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9A3A-DEE7-4B66-8D0C-60A49F7A9E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ст – один из основных органов растения, занимающий боковое положение в побе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л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Газо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Испарение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Образование 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(фотосинте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CED2-3DDB-45D2-91E1-DB4C1DCEDC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Какие приспособления имеет лист для осуществления процесса фотосинте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8B6D-3F42-4CA3-ABD6-119288D490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Внешнее строение ли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86DD-E01B-4523-BDE3-FE0835033D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b3a2c7"/>
                </a:solidFill>
                <a:latin typeface="Calibri"/>
              </a:rPr>
              <a:t>Простые листья</a:t>
            </a:r>
            <a:r>
              <a:rPr b="1" lang="en-US" sz="1200" spc="-1" strike="noStrike">
                <a:solidFill>
                  <a:srgbClr val="b3a2c7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(имеют одну листовую пласти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51A6-64B3-48DD-B25F-1624429E07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е лист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3152"/>
                </a:solidFill>
                <a:latin typeface="Calibri"/>
              </a:rPr>
              <a:t>(На одном черешке имеют несколько листовых пласти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3D24-82B7-451B-8598-9AA4168269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d097"/>
                </a:solidFill>
                <a:latin typeface="Calibri"/>
              </a:rPr>
              <a:t>Клеточное строение л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7F41-1DBC-4AF5-AC01-A8152F84CB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5CC-B845-4E2C-9225-F896549A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FE7-5A2B-49BF-BBA6-8E8B39C4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076-DFC2-4518-A148-4DFAC82E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3B8-3BC2-453F-B50D-E64F2CD5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91AD8-9D9F-4B85-A8BB-61BBDC50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404A0-0030-47A7-891B-F25A70D0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20E97-F2AA-4A76-87A8-75F3318D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0C90D-087A-4CB1-8113-4C6215CA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994F1-8359-4EAB-8423-291823EE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A2330-4E3A-4FD6-B513-86619F3B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2B3A6-6A5B-474E-808D-88D41304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6C0-B4FB-45DD-BD0A-E73450B5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CDEBB-E3C9-42E1-B920-72DE6237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69CF2-DA4F-4087-96BC-B6DBBEB8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938D7-EC06-41D5-9A6C-54B5161D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F284A-C0B7-4045-B5D8-A9E4B1FD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BAE78-B385-4821-A700-098EE992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57506-80BC-4210-AE64-BFAF99DE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058E9-29E7-46D1-AEA8-BF31850C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AFDD5-3462-450A-BD33-2181F0AA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F3C12-833F-4543-8D56-F6ACD7D6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97061-309F-4719-ABBC-C4B0A5E8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C8B-F067-4C4E-82D2-EE1ABF20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CE71E-C1EB-4772-AFFE-8AE436BD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EBA6-5924-4312-91FD-116C8D8C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E7092-35CD-4B09-83A3-25A2EF7B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C984-1E62-4B4B-8CC2-1C760661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4095B-064A-435D-BC44-B0B57F23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E37E5-0FBB-479B-A05A-8750110F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D3C4-CC1C-4A58-9E96-625EC34A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0193CD-369D-4D15-A9D8-743F876C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86430-67B0-412B-96DF-8918E828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D96C29-3313-4A06-91AF-327A928D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108-4315-4B9F-B118-D4FC1E86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9D0381-42DA-46E9-B2F6-17FC0110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C453A6-61DE-4546-8AC4-5629D611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385160-0EF2-4854-B2DE-F5C51039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62B58-ACF6-49F0-83DB-BE612851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2278DB-4087-4695-A61F-0FC37081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2DE2C6-3583-46AF-9492-3E8EB6DB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2B8806-2201-4310-BDC9-5F8A173B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5B0B2C-6B6A-44CD-B025-775BF009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51B935-B7F7-48A3-9256-797509C6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5EF-2664-4D11-8F79-16DB1368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D46-78D8-40E5-BB43-3D42DFFA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213-7E51-4D05-B3ED-3458B7B7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1D2-91DE-40C1-B08E-D34258BB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4AE-AD8C-411F-9726-8ECFD472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024F-72BB-42FE-8AE0-C79A20605207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63AC-76C7-4B08-8286-A577F3C87A5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BB5B-0E04-4BEE-B2B4-FFDF172B81C8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F61C-69E5-4D2F-9859-B5FB41EDDF2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4FBE-B68F-4C4F-B1DF-AE347DABE560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87DA-7DCA-4BAC-A125-2628EC8CE68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9D89-1914-4F6D-A33A-CE8AD1592B7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66B4-0206-4F02-931D-6AA05A6D7BDF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Прямоугольник 3" descr=""/>
          <p:cNvPicPr/>
          <p:nvPr/>
        </p:nvPicPr>
        <p:blipFill>
          <a:blip r:embed="rId1"/>
          <a:stretch/>
        </p:blipFill>
        <p:spPr>
          <a:xfrm>
            <a:off x="1889280" y="401760"/>
            <a:ext cx="5370480" cy="1512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457200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Прямоугольник 6" descr=""/>
          <p:cNvPicPr/>
          <p:nvPr/>
        </p:nvPicPr>
        <p:blipFill>
          <a:blip r:embed="rId2"/>
          <a:stretch/>
        </p:blipFill>
        <p:spPr>
          <a:xfrm>
            <a:off x="103320" y="2365200"/>
            <a:ext cx="9077040" cy="318168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701640"/>
            <a:ext cx="8242200" cy="141300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5" descr=""/>
          <p:cNvPicPr/>
          <p:nvPr/>
        </p:nvPicPr>
        <p:blipFill>
          <a:blip r:embed="rId2"/>
          <a:stretch/>
        </p:blipFill>
        <p:spPr>
          <a:xfrm>
            <a:off x="426960" y="2305080"/>
            <a:ext cx="8290080" cy="7491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357120" y="32860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Газообм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357120" y="40006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спарение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285840" y="4643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Образование органически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(фотосинтез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Прямоугольник 2" descr=""/>
          <p:cNvPicPr/>
          <p:nvPr/>
        </p:nvPicPr>
        <p:blipFill>
          <a:blip r:embed="rId1"/>
          <a:stretch/>
        </p:blipFill>
        <p:spPr>
          <a:xfrm>
            <a:off x="139680" y="536400"/>
            <a:ext cx="8955000" cy="5254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285840"/>
            <a:ext cx="8356680" cy="11412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3" descr="Простые и сложные листья.jpeg"/>
          <p:cNvPicPr/>
          <p:nvPr/>
        </p:nvPicPr>
        <p:blipFill>
          <a:blip r:embed="rId2"/>
          <a:stretch/>
        </p:blipFill>
        <p:spPr>
          <a:xfrm>
            <a:off x="1500120" y="1581120"/>
            <a:ext cx="6500880" cy="4562640"/>
          </a:xfrm>
          <a:prstGeom prst="rect">
            <a:avLst/>
          </a:prstGeom>
          <a:ln w="0">
            <a:noFill/>
          </a:ln>
        </p:spPr>
      </p:pic>
      <p:cxnSp>
        <p:nvCxnSpPr>
          <p:cNvPr id="191" name="Прямая со стрелкой 5"/>
          <p:cNvCxnSpPr/>
          <p:nvPr/>
        </p:nvCxnSpPr>
        <p:spPr>
          <a:xfrm flipH="1">
            <a:off x="4857120" y="2357280"/>
            <a:ext cx="1429560" cy="57240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2" name="TextBox 6"/>
          <p:cNvSpPr/>
          <p:nvPr/>
        </p:nvSpPr>
        <p:spPr>
          <a:xfrm>
            <a:off x="6357960" y="20718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череш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3" name="Прямая со стрелкой 8"/>
          <p:cNvCxnSpPr/>
          <p:nvPr/>
        </p:nvCxnSpPr>
        <p:spPr>
          <a:xfrm flipH="1" flipV="1">
            <a:off x="5857920" y="3857040"/>
            <a:ext cx="643320" cy="11437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4" name="TextBox 10"/>
          <p:cNvSpPr/>
          <p:nvPr/>
        </p:nvSpPr>
        <p:spPr>
          <a:xfrm>
            <a:off x="5429160" y="49291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листовая пласти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" name="Прямая со стрелкой 12"/>
          <p:cNvCxnSpPr/>
          <p:nvPr/>
        </p:nvCxnSpPr>
        <p:spPr>
          <a:xfrm>
            <a:off x="4856760" y="1785600"/>
            <a:ext cx="214920" cy="50076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6" name="TextBox 14"/>
          <p:cNvSpPr/>
          <p:nvPr/>
        </p:nvSpPr>
        <p:spPr>
          <a:xfrm>
            <a:off x="3143160" y="135720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основание ли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6"/>
          <p:cNvCxnSpPr/>
          <p:nvPr/>
        </p:nvCxnSpPr>
        <p:spPr>
          <a:xfrm>
            <a:off x="3357360" y="2285640"/>
            <a:ext cx="1286280" cy="2149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8" name="TextBox 17"/>
          <p:cNvSpPr/>
          <p:nvPr/>
        </p:nvSpPr>
        <p:spPr>
          <a:xfrm>
            <a:off x="1214280" y="200016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прилист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9" name="Прямая со стрелкой 19"/>
          <p:cNvCxnSpPr/>
          <p:nvPr/>
        </p:nvCxnSpPr>
        <p:spPr>
          <a:xfrm flipV="1">
            <a:off x="2571480" y="4357080"/>
            <a:ext cx="1572120" cy="78660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cxnSp>
        <p:nvCxnSpPr>
          <p:cNvPr id="200" name="Прямая со стрелкой 21"/>
          <p:cNvCxnSpPr/>
          <p:nvPr/>
        </p:nvCxnSpPr>
        <p:spPr>
          <a:xfrm flipV="1">
            <a:off x="2571480" y="4428360"/>
            <a:ext cx="2143800" cy="7153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201" name="TextBox 22"/>
          <p:cNvSpPr/>
          <p:nvPr/>
        </p:nvSpPr>
        <p:spPr>
          <a:xfrm>
            <a:off x="1500120" y="507204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жи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2" name="Прямая со стрелкой 24"/>
          <p:cNvCxnSpPr/>
          <p:nvPr/>
        </p:nvCxnSpPr>
        <p:spPr>
          <a:xfrm flipH="1" flipV="1">
            <a:off x="5071320" y="4571280"/>
            <a:ext cx="1429560" cy="42948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203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8143920" cy="927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500040" y="10000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5475"/>
                </a:solidFill>
                <a:latin typeface="Constantia"/>
              </a:rPr>
              <a:t>(имеют одну листовую пластинк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4" descr="лист клена.jpeg"/>
          <p:cNvPicPr/>
          <p:nvPr/>
        </p:nvPicPr>
        <p:blipFill>
          <a:blip r:embed="rId2"/>
          <a:stretch/>
        </p:blipFill>
        <p:spPr>
          <a:xfrm>
            <a:off x="357120" y="15001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" descr="лист одуванчика.jpeg"/>
          <p:cNvPicPr/>
          <p:nvPr/>
        </p:nvPicPr>
        <p:blipFill>
          <a:blip r:embed="rId3"/>
          <a:stretch/>
        </p:blipFill>
        <p:spPr>
          <a:xfrm rot="240600">
            <a:off x="4881600" y="1496520"/>
            <a:ext cx="2071800" cy="27860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6" descr="лист сирени.jpeg"/>
          <p:cNvPicPr/>
          <p:nvPr/>
        </p:nvPicPr>
        <p:blipFill>
          <a:blip r:embed="rId4"/>
          <a:stretch/>
        </p:blipFill>
        <p:spPr>
          <a:xfrm rot="1334400">
            <a:off x="6318000" y="3769920"/>
            <a:ext cx="1900080" cy="24289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7" descr="лист яблони.jpeg"/>
          <p:cNvPicPr/>
          <p:nvPr/>
        </p:nvPicPr>
        <p:blipFill>
          <a:blip r:embed="rId5"/>
          <a:stretch/>
        </p:blipFill>
        <p:spPr>
          <a:xfrm>
            <a:off x="2428920" y="3929040"/>
            <a:ext cx="217152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928800" y="371484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кл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9"/>
          <p:cNvSpPr/>
          <p:nvPr/>
        </p:nvSpPr>
        <p:spPr>
          <a:xfrm>
            <a:off x="3929040" y="414324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одуванч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2500200" y="59292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ябло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6000840" y="585792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сир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356680" cy="9255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285840" y="92880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354d"/>
                </a:solidFill>
                <a:latin typeface="Constantia"/>
              </a:rPr>
              <a:t>(На одном черешке имеют несколько листовых пластино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Рисунок 3" descr="лист клевера.jpeg"/>
          <p:cNvPicPr/>
          <p:nvPr/>
        </p:nvPicPr>
        <p:blipFill>
          <a:blip r:embed="rId2"/>
          <a:stretch/>
        </p:blipFill>
        <p:spPr>
          <a:xfrm>
            <a:off x="714240" y="1428840"/>
            <a:ext cx="1981440" cy="18763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лист малины.jpeg"/>
          <p:cNvPicPr/>
          <p:nvPr/>
        </p:nvPicPr>
        <p:blipFill>
          <a:blip r:embed="rId3"/>
          <a:stretch/>
        </p:blipFill>
        <p:spPr>
          <a:xfrm>
            <a:off x="3286080" y="1357200"/>
            <a:ext cx="2225880" cy="2419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5" descr="Простые и сложные листья.jpeg"/>
          <p:cNvPicPr/>
          <p:nvPr/>
        </p:nvPicPr>
        <p:blipFill>
          <a:blip r:embed="rId4"/>
          <a:stretch/>
        </p:blipFill>
        <p:spPr>
          <a:xfrm>
            <a:off x="6215040" y="1357200"/>
            <a:ext cx="2271600" cy="22860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6" descr="лист шиповника.jpeg"/>
          <p:cNvPicPr/>
          <p:nvPr/>
        </p:nvPicPr>
        <p:blipFill>
          <a:blip r:embed="rId5"/>
          <a:stretch/>
        </p:blipFill>
        <p:spPr>
          <a:xfrm>
            <a:off x="2000160" y="371484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7" descr="лист люпина.jpeg"/>
          <p:cNvPicPr/>
          <p:nvPr/>
        </p:nvPicPr>
        <p:blipFill>
          <a:blip r:embed="rId6"/>
          <a:stretch/>
        </p:blipFill>
        <p:spPr>
          <a:xfrm>
            <a:off x="5000760" y="3357720"/>
            <a:ext cx="3000240" cy="28573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642960" y="32860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клев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3857760" y="3714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мал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6500880" y="3357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земля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2071800" y="60721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шипов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6143760" y="60008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люп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2" descr=""/>
          <p:cNvPicPr/>
          <p:nvPr/>
        </p:nvPicPr>
        <p:blipFill>
          <a:blip r:embed="rId1"/>
          <a:stretch/>
        </p:blipFill>
        <p:spPr>
          <a:xfrm>
            <a:off x="360360" y="262080"/>
            <a:ext cx="8423280" cy="10238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" descr="подушка 001.jpg"/>
          <p:cNvPicPr/>
          <p:nvPr/>
        </p:nvPicPr>
        <p:blipFill>
          <a:blip r:embed="rId2"/>
          <a:stretch/>
        </p:blipFill>
        <p:spPr>
          <a:xfrm>
            <a:off x="357120" y="1428840"/>
            <a:ext cx="4857840" cy="4429080"/>
          </a:xfrm>
          <a:prstGeom prst="rect">
            <a:avLst/>
          </a:prstGeom>
          <a:ln w="0">
            <a:noFill/>
          </a:ln>
        </p:spPr>
      </p:pic>
      <p:cxnSp>
        <p:nvCxnSpPr>
          <p:cNvPr id="230" name="Прямая со стрелкой 6"/>
          <p:cNvCxnSpPr/>
          <p:nvPr/>
        </p:nvCxnSpPr>
        <p:spPr>
          <a:xfrm>
            <a:off x="4928760" y="1643040"/>
            <a:ext cx="8578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1" name="TextBox 9"/>
          <p:cNvSpPr/>
          <p:nvPr/>
        </p:nvSpPr>
        <p:spPr>
          <a:xfrm>
            <a:off x="5786280" y="14288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ожица (эпидер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2" name="Прямая со стрелкой 11"/>
          <p:cNvCxnSpPr/>
          <p:nvPr/>
        </p:nvCxnSpPr>
        <p:spPr>
          <a:xfrm>
            <a:off x="4928760" y="2428920"/>
            <a:ext cx="8578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3" name="TextBox 12"/>
          <p:cNvSpPr/>
          <p:nvPr/>
        </p:nvSpPr>
        <p:spPr>
          <a:xfrm>
            <a:off x="5929200" y="22860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Столбчатая 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4" name="Прямая со стрелкой 14"/>
          <p:cNvCxnSpPr/>
          <p:nvPr/>
        </p:nvCxnSpPr>
        <p:spPr>
          <a:xfrm>
            <a:off x="5072040" y="3499920"/>
            <a:ext cx="643320" cy="2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5" name="TextBox 15"/>
          <p:cNvSpPr/>
          <p:nvPr/>
        </p:nvSpPr>
        <p:spPr>
          <a:xfrm>
            <a:off x="5786280" y="33577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Губчатая 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6" name="Прямая со стрелкой 27"/>
          <p:cNvCxnSpPr/>
          <p:nvPr/>
        </p:nvCxnSpPr>
        <p:spPr>
          <a:xfrm>
            <a:off x="5143320" y="4214880"/>
            <a:ext cx="57204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7" name="TextBox 28"/>
          <p:cNvSpPr/>
          <p:nvPr/>
        </p:nvSpPr>
        <p:spPr>
          <a:xfrm>
            <a:off x="5786280" y="40719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ожица (эпидер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8" name="Прямая со стрелкой 30"/>
          <p:cNvCxnSpPr/>
          <p:nvPr/>
        </p:nvCxnSpPr>
        <p:spPr>
          <a:xfrm>
            <a:off x="5072040" y="5143680"/>
            <a:ext cx="71496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9" name="TextBox 32"/>
          <p:cNvSpPr/>
          <p:nvPr/>
        </p:nvSpPr>
        <p:spPr>
          <a:xfrm>
            <a:off x="5786280" y="50007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Усть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Прямая со стрелкой 34"/>
          <p:cNvCxnSpPr/>
          <p:nvPr/>
        </p:nvCxnSpPr>
        <p:spPr>
          <a:xfrm>
            <a:off x="5000760" y="5643720"/>
            <a:ext cx="78624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1" name="TextBox 35"/>
          <p:cNvSpPr/>
          <p:nvPr/>
        </p:nvSpPr>
        <p:spPr>
          <a:xfrm>
            <a:off x="5786280" y="54291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Жи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36" descr="Копия устьце.jpg"/>
          <p:cNvPicPr/>
          <p:nvPr/>
        </p:nvPicPr>
        <p:blipFill>
          <a:blip r:embed="rId3"/>
          <a:stretch/>
        </p:blipFill>
        <p:spPr>
          <a:xfrm>
            <a:off x="5857920" y="4357800"/>
            <a:ext cx="2371680" cy="21333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8:36:38Z</dcterms:created>
  <dc:creator>Марина</dc:creator>
  <dc:description/>
  <dc:language>en-US</dc:language>
  <cp:lastModifiedBy>LEGION</cp:lastModifiedBy>
  <dcterms:modified xsi:type="dcterms:W3CDTF">2014-11-25T09:23:46Z</dcterms:modified>
  <cp:revision>69</cp:revision>
  <dc:subject/>
  <dc:title>Слайд 1</dc:title>
</cp:coreProperties>
</file>